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34880" y="1052280"/>
            <a:ext cx="1049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宋体"/>
                <a:ea typeface="宋体"/>
              </a:rPr>
              <a:t>圆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1428840" y="2565360"/>
            <a:ext cx="38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圆的周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" descr="\\192.168.1.3\临时中转站1_以本人姓名建目录\开发中心-多媒体部\02美术部\晨会文件\04宁煌\人教数学教参\05.png"/>
          <p:cNvPicPr/>
          <p:nvPr/>
        </p:nvPicPr>
        <p:blipFill>
          <a:blip r:embed="rId2"/>
          <a:stretch/>
        </p:blipFill>
        <p:spPr>
          <a:xfrm>
            <a:off x="1265400" y="113040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663840" y="41432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79480" y="43592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2629080" y="537372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4.7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3.14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.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m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2062080" y="5877000"/>
            <a:ext cx="41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答：这个圆桌面的直径是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.5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2"/>
          <p:cNvSpPr/>
          <p:nvPr/>
        </p:nvSpPr>
        <p:spPr>
          <a:xfrm>
            <a:off x="785880" y="1641600"/>
            <a:ext cx="47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个圆桌面的直径是多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3468600" cy="21574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27"/>
          <p:cNvSpPr/>
          <p:nvPr/>
        </p:nvSpPr>
        <p:spPr>
          <a:xfrm>
            <a:off x="2195640" y="2276640"/>
            <a:ext cx="3143160" cy="957240"/>
          </a:xfrm>
          <a:prstGeom prst="wedgeRoundRectCallout">
            <a:avLst>
              <a:gd name="adj1" fmla="val -59648"/>
              <a:gd name="adj2" fmla="val 2794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用卷尺量得圆桌面的周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7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介绍数学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25400" y="1916280"/>
            <a:ext cx="751860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五、布置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971640" y="262908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十四，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～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问题引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65200" y="1535040"/>
            <a:ext cx="4835520" cy="3263760"/>
            <a:chOff x="565200" y="1535040"/>
            <a:chExt cx="4835520" cy="326376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2565360" y="2639880"/>
              <a:ext cx="283536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AutoShape 27"/>
            <p:cNvSpPr/>
            <p:nvPr/>
          </p:nvSpPr>
          <p:spPr>
            <a:xfrm>
              <a:off x="565200" y="1535040"/>
              <a:ext cx="2736720" cy="1295280"/>
            </a:xfrm>
            <a:prstGeom prst="wedgeRoundRectCallout">
              <a:avLst>
                <a:gd name="adj1" fmla="val 38745"/>
                <a:gd name="adj2" fmla="val 5869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圆桌和菜板都有点开裂，需要在它们的边缘箍上一圈铁皮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995720" y="2278080"/>
            <a:ext cx="2709720" cy="2663280"/>
            <a:chOff x="4995720" y="2278080"/>
            <a:chExt cx="2709720" cy="266328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6578280" y="2422080"/>
              <a:ext cx="112716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AutoShape 27"/>
            <p:cNvSpPr/>
            <p:nvPr/>
          </p:nvSpPr>
          <p:spPr>
            <a:xfrm>
              <a:off x="4995720" y="2278080"/>
              <a:ext cx="1873080" cy="936360"/>
            </a:xfrm>
            <a:prstGeom prst="wedgeRoundRectCallout">
              <a:avLst>
                <a:gd name="adj1" fmla="val 56018"/>
                <a:gd name="adj2" fmla="val 427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分别需要多长的铁皮啊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539640" y="4869000"/>
            <a:ext cx="3960720" cy="1414440"/>
            <a:chOff x="539640" y="4869000"/>
            <a:chExt cx="3960720" cy="1414440"/>
          </a:xfrm>
        </p:grpSpPr>
        <p:pic>
          <p:nvPicPr>
            <p:cNvPr id="51" name="Picture 20" descr="男天使副本"/>
            <p:cNvPicPr/>
            <p:nvPr/>
          </p:nvPicPr>
          <p:blipFill>
            <a:blip r:embed="rId4"/>
            <a:stretch/>
          </p:blipFill>
          <p:spPr>
            <a:xfrm>
              <a:off x="539640" y="486900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AutoShape 27"/>
            <p:cNvSpPr/>
            <p:nvPr/>
          </p:nvSpPr>
          <p:spPr>
            <a:xfrm>
              <a:off x="2195280" y="5372280"/>
              <a:ext cx="2305080" cy="792000"/>
            </a:xfrm>
            <a:prstGeom prst="wedgeRoundRectCallout">
              <a:avLst>
                <a:gd name="adj1" fmla="val -56953"/>
                <a:gd name="adj2" fmla="val -150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同学们，你们有办法解决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63840" y="41432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79480" y="43592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95480" y="45752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457200" y="1628640"/>
            <a:ext cx="378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测量圆周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92360" y="2205000"/>
            <a:ext cx="5883120" cy="441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92360" y="2205000"/>
            <a:ext cx="59338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763640" y="2236680"/>
            <a:ext cx="5813640" cy="436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457200" y="1628640"/>
            <a:ext cx="378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测量圆周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754280" y="2214720"/>
            <a:ext cx="581976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457200" y="1413000"/>
            <a:ext cx="378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测量圆周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971640" y="2492280"/>
            <a:ext cx="5761080" cy="1584360"/>
            <a:chOff x="971640" y="2492280"/>
            <a:chExt cx="5761080" cy="1584360"/>
          </a:xfrm>
        </p:grpSpPr>
        <p:pic>
          <p:nvPicPr>
            <p:cNvPr id="67" name="Picture 20" descr="男天使副本"/>
            <p:cNvPicPr/>
            <p:nvPr/>
          </p:nvPicPr>
          <p:blipFill>
            <a:blip r:embed="rId2"/>
            <a:stretch/>
          </p:blipFill>
          <p:spPr>
            <a:xfrm>
              <a:off x="971640" y="249228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AutoShape 27"/>
            <p:cNvSpPr/>
            <p:nvPr/>
          </p:nvSpPr>
          <p:spPr>
            <a:xfrm>
              <a:off x="2627280" y="2995560"/>
              <a:ext cx="4105440" cy="1081080"/>
            </a:xfrm>
            <a:prstGeom prst="wedgeRoundRectCallout">
              <a:avLst>
                <a:gd name="adj1" fmla="val -53907"/>
                <a:gd name="adj2" fmla="val -1446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像这样，围成圆的曲线的长是圆的周长。除了上面的方法，还可以怎样求圆的周长呢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979640" y="4362480"/>
            <a:ext cx="5840280" cy="1803240"/>
            <a:chOff x="1979640" y="4362480"/>
            <a:chExt cx="5840280" cy="1803240"/>
          </a:xfrm>
        </p:grpSpPr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6732720" y="4362480"/>
              <a:ext cx="1087200" cy="18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AutoShape 27"/>
            <p:cNvSpPr/>
            <p:nvPr/>
          </p:nvSpPr>
          <p:spPr>
            <a:xfrm>
              <a:off x="1979640" y="4581720"/>
              <a:ext cx="4464000" cy="936360"/>
            </a:xfrm>
            <a:prstGeom prst="wedgeRoundRectCallout">
              <a:avLst>
                <a:gd name="adj1" fmla="val 55546"/>
                <a:gd name="adj2" fmla="val -389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圆的周长和圆的大小有关系，圆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大小取决于圆的半径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63840" y="41432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79480" y="43592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95480" y="45752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11480" y="47912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6"/>
          <p:cNvSpPr/>
          <p:nvPr/>
        </p:nvSpPr>
        <p:spPr>
          <a:xfrm>
            <a:off x="458640" y="1413000"/>
            <a:ext cx="6202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探究圆周长与直径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-34920" y="1744560"/>
            <a:ext cx="6622560" cy="1916280"/>
            <a:chOff x="-34920" y="1744560"/>
            <a:chExt cx="6622560" cy="1916280"/>
          </a:xfrm>
        </p:grpSpPr>
        <p:pic>
          <p:nvPicPr>
            <p:cNvPr id="79" name="Picture 20" descr="男天使副本"/>
            <p:cNvPicPr/>
            <p:nvPr/>
          </p:nvPicPr>
          <p:blipFill>
            <a:blip r:embed="rId2"/>
            <a:stretch/>
          </p:blipFill>
          <p:spPr>
            <a:xfrm>
              <a:off x="-34920" y="1744560"/>
              <a:ext cx="152316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AutoShape 27"/>
            <p:cNvSpPr/>
            <p:nvPr/>
          </p:nvSpPr>
          <p:spPr>
            <a:xfrm>
              <a:off x="1728000" y="1960560"/>
              <a:ext cx="4859640" cy="1700280"/>
            </a:xfrm>
            <a:prstGeom prst="wedgeRoundRectCallout">
              <a:avLst>
                <a:gd name="adj1" fmla="val -55847"/>
                <a:gd name="adj2" fmla="val -2012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让我们来做一个实验：找一些圆形的物品，分别量出它们的周长和直径，并算出周长和直径的比值，把结果填入下表中，看看有什么发现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-34920" y="1700280"/>
            <a:ext cx="5903640" cy="1511280"/>
            <a:chOff x="-34920" y="1700280"/>
            <a:chExt cx="5903640" cy="1511280"/>
          </a:xfrm>
        </p:grpSpPr>
        <p:pic>
          <p:nvPicPr>
            <p:cNvPr id="82" name="Picture 20" descr="男天使副本"/>
            <p:cNvPicPr/>
            <p:nvPr/>
          </p:nvPicPr>
          <p:blipFill>
            <a:blip r:embed="rId3"/>
            <a:stretch/>
          </p:blipFill>
          <p:spPr>
            <a:xfrm>
              <a:off x="-34920" y="1700280"/>
              <a:ext cx="152316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AutoShape 27"/>
            <p:cNvSpPr/>
            <p:nvPr/>
          </p:nvSpPr>
          <p:spPr>
            <a:xfrm>
              <a:off x="1620000" y="2276640"/>
              <a:ext cx="4248720" cy="934920"/>
            </a:xfrm>
            <a:prstGeom prst="wedgeRoundRectCallout">
              <a:avLst>
                <a:gd name="adj1" fmla="val -56236"/>
                <a:gd name="adj2" fmla="val -178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原来一个圆的周长总是它的直径的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倍多一些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1403280" y="3745080"/>
          <a:ext cx="6913440" cy="30337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234144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宋体"/>
                          <a:ea typeface="宋体"/>
                        </a:rPr>
                        <a:t>物品名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宋体"/>
                          <a:ea typeface="宋体"/>
                        </a:rPr>
                        <a:t>周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宋体"/>
                          <a:ea typeface="宋体"/>
                        </a:rPr>
                        <a:t>直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宋体"/>
                          <a:ea typeface="宋体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宋体"/>
                          <a:ea typeface="宋体"/>
                        </a:rPr>
                        <a:t>（保留两位小数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5" name=""/>
          <p:cNvGrpSpPr/>
          <p:nvPr/>
        </p:nvGrpSpPr>
        <p:grpSpPr>
          <a:xfrm>
            <a:off x="6294600" y="3716280"/>
            <a:ext cx="1656720" cy="807120"/>
            <a:chOff x="6294600" y="3716280"/>
            <a:chExt cx="1656720" cy="807120"/>
          </a:xfrm>
        </p:grpSpPr>
        <p:grpSp>
          <p:nvGrpSpPr>
            <p:cNvPr id="86" name=""/>
            <p:cNvGrpSpPr/>
            <p:nvPr/>
          </p:nvGrpSpPr>
          <p:grpSpPr>
            <a:xfrm>
              <a:off x="6294600" y="3716280"/>
              <a:ext cx="781920" cy="807120"/>
              <a:chOff x="6294600" y="3716280"/>
              <a:chExt cx="781920" cy="807120"/>
            </a:xfrm>
          </p:grpSpPr>
          <p:sp>
            <p:nvSpPr>
              <p:cNvPr id="87" name=""/>
              <p:cNvSpPr/>
              <p:nvPr/>
            </p:nvSpPr>
            <p:spPr>
              <a:xfrm>
                <a:off x="6294600" y="4100400"/>
                <a:ext cx="7138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直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319800" y="3716280"/>
                <a:ext cx="756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周长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391080" y="4173480"/>
                <a:ext cx="514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6872040" y="391788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比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441440" y="4925880"/>
            <a:ext cx="6424560" cy="1806480"/>
            <a:chOff x="1441440" y="4925880"/>
            <a:chExt cx="6424560" cy="1806480"/>
          </a:xfrm>
        </p:grpSpPr>
        <p:sp>
          <p:nvSpPr>
            <p:cNvPr id="92" name=""/>
            <p:cNvSpPr/>
            <p:nvPr/>
          </p:nvSpPr>
          <p:spPr>
            <a:xfrm>
              <a:off x="1673280" y="492588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茶杯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05080" y="4935240"/>
              <a:ext cx="12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8.3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59280" y="4944960"/>
              <a:ext cx="12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42080" y="492588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.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82720" y="546408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光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47840" y="5476680"/>
              <a:ext cx="12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7.85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32200" y="5454360"/>
              <a:ext cx="12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42080" y="542916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.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92440" y="593064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硬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95720" y="5943600"/>
              <a:ext cx="12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.85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41920" y="5921280"/>
              <a:ext cx="12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5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51800" y="589572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.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41440" y="636408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玩具车车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86000" y="6357960"/>
              <a:ext cx="12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3.5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51280" y="6345000"/>
              <a:ext cx="12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.5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86720" y="634500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.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6"/>
          <p:cNvSpPr/>
          <p:nvPr/>
        </p:nvSpPr>
        <p:spPr>
          <a:xfrm>
            <a:off x="1763640" y="458136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果用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表示圆的周长，就有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236760" y="5165640"/>
            <a:ext cx="3063600" cy="452520"/>
            <a:chOff x="3236760" y="5165640"/>
            <a:chExt cx="3063600" cy="452520"/>
          </a:xfrm>
        </p:grpSpPr>
        <p:sp>
          <p:nvSpPr>
            <p:cNvPr id="111" name="矩形 4"/>
            <p:cNvSpPr/>
            <p:nvPr/>
          </p:nvSpPr>
          <p:spPr>
            <a:xfrm>
              <a:off x="3236760" y="5165640"/>
              <a:ext cx="1254240" cy="452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d5e8ea"/>
              </a:solidFill>
              <a:miter/>
            </a:ln>
            <a:effectLst>
              <a:outerShdw dist="20160" dir="5400000" blurRad="0" rotWithShape="0">
                <a:srgbClr val="000000">
                  <a:alpha val="2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16"/>
            <p:cNvSpPr/>
            <p:nvPr/>
          </p:nvSpPr>
          <p:spPr>
            <a:xfrm>
              <a:off x="5046120" y="5165640"/>
              <a:ext cx="1254240" cy="452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d5e8ea"/>
              </a:solidFill>
              <a:miter/>
            </a:ln>
            <a:effectLst>
              <a:outerShdw dist="20160" dir="5400000" blurRad="0" rotWithShape="0">
                <a:srgbClr val="000000">
                  <a:alpha val="2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3"/>
            <p:cNvSpPr/>
            <p:nvPr/>
          </p:nvSpPr>
          <p:spPr>
            <a:xfrm>
              <a:off x="3568680" y="5165640"/>
              <a:ext cx="231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π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或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π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95280" y="1773360"/>
            <a:ext cx="8280360" cy="2302920"/>
            <a:chOff x="395280" y="1773360"/>
            <a:chExt cx="8280360" cy="2302920"/>
          </a:xfrm>
        </p:grpSpPr>
        <p:pic>
          <p:nvPicPr>
            <p:cNvPr id="115" name="Picture 20" descr="男天使副本"/>
            <p:cNvPicPr/>
            <p:nvPr/>
          </p:nvPicPr>
          <p:blipFill>
            <a:blip r:embed="rId2"/>
            <a:stretch/>
          </p:blipFill>
          <p:spPr>
            <a:xfrm>
              <a:off x="395280" y="1773360"/>
              <a:ext cx="1523880" cy="14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AutoShape 27"/>
            <p:cNvSpPr/>
            <p:nvPr/>
          </p:nvSpPr>
          <p:spPr>
            <a:xfrm>
              <a:off x="2158920" y="1989000"/>
              <a:ext cx="6516720" cy="2087280"/>
            </a:xfrm>
            <a:prstGeom prst="wedgeRoundRectCallout">
              <a:avLst>
                <a:gd name="adj1" fmla="val -54361"/>
                <a:gd name="adj2" fmla="val -2566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其实，早就有人研究了周长与直径的关系，发现任意一个圆的周长与它的直径的比值是一个固定的数，我们把它叫做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圆周率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，用字母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π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表示。它是一个无限不循环小数，</a:t>
              </a:r>
              <a:r>
                <a:rPr b="0" lang="el-GR" sz="1800" spc="-1" strike="noStrike">
                  <a:solidFill>
                    <a:srgbClr val="ff0000"/>
                  </a:solidFill>
                  <a:latin typeface="Times New Roman"/>
                </a:rPr>
                <a:t>π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.1415926535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但在实际应用中常常只取它的近似值，例如</a:t>
              </a:r>
              <a:r>
                <a:rPr b="0" lang="el-GR" sz="1800" spc="-1" strike="noStrike">
                  <a:solidFill>
                    <a:srgbClr val="ff0000"/>
                  </a:solidFill>
                  <a:latin typeface="Times New Roman"/>
                </a:rPr>
                <a:t>π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.1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Box 16"/>
          <p:cNvSpPr/>
          <p:nvPr/>
        </p:nvSpPr>
        <p:spPr>
          <a:xfrm>
            <a:off x="458640" y="1413000"/>
            <a:ext cx="6202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探究圆周长与直径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7"/>
          <p:cNvSpPr/>
          <p:nvPr/>
        </p:nvSpPr>
        <p:spPr>
          <a:xfrm>
            <a:off x="468360" y="4165560"/>
            <a:ext cx="8362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这辆自行车后轮转一圈，大约可以走多远？小明家离学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后轮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8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圈够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2382840" y="5108400"/>
            <a:ext cx="521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7.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0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0"/>
          <p:cNvSpPr/>
          <p:nvPr/>
        </p:nvSpPr>
        <p:spPr>
          <a:xfrm>
            <a:off x="2340000" y="5799240"/>
            <a:ext cx="48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0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8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2340000" y="5472000"/>
            <a:ext cx="48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0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2"/>
          <p:cNvSpPr/>
          <p:nvPr/>
        </p:nvSpPr>
        <p:spPr>
          <a:xfrm>
            <a:off x="755640" y="6062760"/>
            <a:ext cx="8577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答：这辆自行车后轮转一圈，大约可以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0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小明从家到学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后轮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8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圈不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3"/>
          <p:cNvSpPr/>
          <p:nvPr/>
        </p:nvSpPr>
        <p:spPr>
          <a:xfrm>
            <a:off x="463680" y="1432080"/>
            <a:ext cx="404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学习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595520" y="2070000"/>
            <a:ext cx="3876480" cy="21607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27"/>
          <p:cNvSpPr/>
          <p:nvPr/>
        </p:nvSpPr>
        <p:spPr>
          <a:xfrm>
            <a:off x="5867280" y="2133720"/>
            <a:ext cx="2340000" cy="1295280"/>
          </a:xfrm>
          <a:prstGeom prst="wedgeRoundRectCallout">
            <a:avLst>
              <a:gd name="adj1" fmla="val -62550"/>
              <a:gd name="adj2" fmla="val -1372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辆自行车后轮轮胎的半径大约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c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48000" y="46911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785880" y="1660680"/>
            <a:ext cx="56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求下面各圆的周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324000" y="46530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×3.14×3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8.84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m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3419640" y="46465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.14×6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8.84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m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6130800" y="4654440"/>
            <a:ext cx="34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×3.14×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31.4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m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87280" y="2276640"/>
            <a:ext cx="67262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7T06:28:2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